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80AC-449C-492B-9C59-D2BD7453C6B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C521-57EC-461C-8C59-ED9F45F70D8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7" name="PlaceHolder 1"/>
          <p:cNvSpPr>
            <a:spLocks noGrp="1"/>
          </p:cNvSpPr>
          <p:nvPr>
            <p:ph type="sldImg"/>
          </p:nvPr>
        </p:nvSpPr>
        <p:spPr>
          <a:xfrm>
            <a:off x="1130400" y="690480"/>
            <a:ext cx="4599000" cy="3449880"/>
          </a:xfrm>
          <a:prstGeom prst="rect">
            <a:avLst/>
          </a:prstGeom>
          <a:ln w="0">
            <a:noFill/>
          </a:ln>
        </p:spPr>
      </p:sp>
      <p:sp>
        <p:nvSpPr>
          <p:cNvPr id="20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E7988-BAD4-49C1-838D-9AB71AB5A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2E948-39B0-41AB-96B8-1AC5CE943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EA293-880B-404B-B41E-B8BFC14C6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002CC-2CA9-4D6F-93FF-C2AE2610A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90F52-570F-4971-9FCF-BBE0BFD08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8108-6634-48B3-A98C-28B0C980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A2E0D-1041-4C2F-8F94-EB687F88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660C8-C840-47AA-A4F2-DE047FE40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E9F1B-A200-4DA6-B8E6-0E9B8DA1E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A769-F8FC-4478-874D-7F99FF8F3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CFD5-FC32-43EA-A07B-01523D9A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4926-46B8-45E5-962E-E30D41183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8B4E-1EDA-4DC3-884D-CE7BC3A7C14E}"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1027"/>
          <p:cNvSpPr/>
          <p:nvPr/>
        </p:nvSpPr>
        <p:spPr>
          <a:xfrm>
            <a:off x="685800" y="2133720"/>
            <a:ext cx="784872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ood everyday teaching practices that can do more to attack motivation directly.</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243828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udents learn best when incentives for learning in a classroom satisfy their own motives for enrolling in the cours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1027"/>
          <p:cNvSpPr/>
          <p:nvPr/>
        </p:nvSpPr>
        <p:spPr>
          <a:xfrm>
            <a:off x="685800" y="12193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apitalizing on students’ existing need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udents learn by doing, making, writing, designing, creating, solving.</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1027"/>
          <p:cNvSpPr/>
          <p:nvPr/>
        </p:nvSpPr>
        <p:spPr>
          <a:xfrm>
            <a:off x="609480" y="12193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 students active participants in learning.</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2860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eoples’ beliefs in their ability to succeed in specific situation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definition of perceived self-efficacy.</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219320"/>
            <a:ext cx="7696080" cy="314604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think</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feel</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motivate themselve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behav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1027"/>
          <p:cNvSpPr/>
          <p:nvPr/>
        </p:nvSpPr>
        <p:spPr>
          <a:xfrm>
            <a:off x="762120" y="1523880"/>
            <a:ext cx="784836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self-efficacy beliefs determin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457200" y="685800"/>
            <a:ext cx="7924680" cy="567504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t themselves challenging goals and maintain strong commitment to them</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Heighten and sustain their efforts in the face of failure</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Attribute failure to insufficient effort or deficient knowledge and skills which are acquirable</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Approach threatening situations with assurance that they can exercise control over them</a:t>
            </a:r>
            <a:endParaRPr b="1" lang="en-US" sz="2800" spc="-1" strike="noStrike">
              <a:solidFill>
                <a:srgbClr val="ff9933"/>
              </a:solidFill>
              <a:latin typeface="Times New Roman"/>
            </a:endParaRPr>
          </a:p>
          <a:p>
            <a:pPr marL="743040" indent="-743040" algn="ctr">
              <a:spcBef>
                <a:spcPts val="17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09480" y="2133720"/>
            <a:ext cx="784872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eople who have a strong sense of self-efficacy and high assurance in the capabiliti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609480" y="144792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AILY DOU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9" presetSubtype="10">
                                  <p:stCondLst>
                                    <p:cond delay="0"/>
                                  </p:stCondLst>
                                  <p:childTnLst>
                                    <p:audio isNarration="0">
                                      <p:cMediaNode showWhenStopped="1">
                                        <p:cTn/>
                                        <p:tgtEl>
                                          <p:sndTgt r:embed="rId1" name="cashreg.wav"/>
                                        </p:tgtEl>
                                      </p:cMediaNode>
                                    </p:audio>
                                    <p:set>
                                      <p:cBhvr>
                                        <p:cTn id="29" dur="1" fill="hold">
                                          <p:stCondLst>
                                            <p:cond delay="0"/>
                                          </p:stCondLst>
                                        </p:cTn>
                                        <p:tgtEl>
                                          <p:spTgt spid="127"/>
                                        </p:tgtEl>
                                        <p:attrNameLst>
                                          <p:attrName>style.visibility</p:attrName>
                                        </p:attrNameLst>
                                      </p:cBhvr>
                                      <p:to>
                                        <p:strVal val="visible"/>
                                      </p:to>
                                    </p:set>
                                    <p:anim calcmode="lin" valueType="num">
                                      <p:cBhvr additive="repl">
                                        <p:cTn id="30"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533520" y="1447920"/>
            <a:ext cx="784836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four main sources of influence that develop people’s beliefs about their efficacy.</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81080"/>
            <a:ext cx="807696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unctions as the primary setting for the cultivation and social validation of cognitive competencie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1027"/>
          <p:cNvSpPr/>
          <p:nvPr/>
        </p:nvSpPr>
        <p:spPr>
          <a:xfrm>
            <a:off x="533520" y="1600200"/>
            <a:ext cx="7848360" cy="1569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School</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380880" y="243828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oals</a:t>
            </a:r>
            <a:endParaRPr b="1" lang="en-US" sz="3600" spc="-1" strike="noStrike">
              <a:solidFill>
                <a:srgbClr val="ff9933"/>
              </a:solidFill>
              <a:latin typeface="Times New Roman"/>
            </a:endParaRPr>
          </a:p>
        </p:txBody>
      </p:sp>
      <p:sp>
        <p:nvSpPr>
          <p:cNvPr id="136" name="Rectangle 5"/>
          <p:cNvSpPr/>
          <p:nvPr/>
        </p:nvSpPr>
        <p:spPr>
          <a:xfrm>
            <a:off x="6553080" y="4800600"/>
            <a:ext cx="609624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1027"/>
          <p:cNvSpPr/>
          <p:nvPr/>
        </p:nvSpPr>
        <p:spPr>
          <a:xfrm>
            <a:off x="533520" y="2209680"/>
            <a:ext cx="78483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9933"/>
                </a:solidFill>
                <a:latin typeface="Times New Roman"/>
              </a:rPr>
              <a:t>what motivates a person to be successfu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4"/>
          <p:cNvSpPr/>
          <p:nvPr/>
        </p:nvSpPr>
        <p:spPr>
          <a:xfrm>
            <a:off x="609480" y="762120"/>
            <a:ext cx="8001000" cy="490932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hort and long term goal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Kindnes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adline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rformance incentive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tailed instruction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ke it fun</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ust and respect</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reate opportunitie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1027"/>
          <p:cNvSpPr/>
          <p:nvPr/>
        </p:nvSpPr>
        <p:spPr>
          <a:xfrm>
            <a:off x="685800" y="2514600"/>
            <a:ext cx="784872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ight of the 21 tactics that will help maximize motivation in yourself and other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85800" y="2666880"/>
            <a:ext cx="7924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ixing the task up.  Not asking students do the same boring tasks all the tim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1027"/>
          <p:cNvSpPr/>
          <p:nvPr/>
        </p:nvSpPr>
        <p:spPr>
          <a:xfrm>
            <a:off x="533520" y="762120"/>
            <a:ext cx="78483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 it stimulating</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533520" y="533520"/>
            <a:ext cx="8076960" cy="606492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Hold high but realistic expectations for your students</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Help students set achievable goals for themselves</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Tell students what they need to do to succeed in your course</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Strengthen students self-motivation</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void creating intense competition among students</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Be enthusiastic about your subject</a:t>
            </a:r>
            <a:endParaRPr b="1" lang="en-US" sz="3200" spc="-1" strike="noStrike">
              <a:solidFill>
                <a:srgbClr val="ff9933"/>
              </a:solidFill>
              <a:latin typeface="Times New Roman"/>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1027"/>
          <p:cNvSpPr/>
          <p:nvPr/>
        </p:nvSpPr>
        <p:spPr>
          <a:xfrm>
            <a:off x="609480" y="21337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9933"/>
                </a:solidFill>
                <a:latin typeface="Times New Roman"/>
              </a:rPr>
              <a:t>Instructional behaviors that motivate stude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457200" y="762120"/>
            <a:ext cx="8077320" cy="57517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Work from students’ strengths and interests</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When possible, let students have some say in choosing what will be studied</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Increase the difficulty of the material as the semester progresses</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Vary your teaching methods</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85800" y="16765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ructuring the Course to Motivate Stude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2438280"/>
            <a:ext cx="7848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Motivated by the love of learning, knowledge for the sake of knowledge, positive feelings about themselves, and what people will do without external induceme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1027"/>
          <p:cNvSpPr/>
          <p:nvPr/>
        </p:nvSpPr>
        <p:spPr>
          <a:xfrm>
            <a:off x="609480" y="1371600"/>
            <a:ext cx="7848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What is:</a:t>
            </a:r>
            <a:endParaRPr b="1" lang="en-US" sz="3600" spc="-1" strike="noStrike">
              <a:solidFill>
                <a:srgbClr val="ff9933"/>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Intrinsic Motivatio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914400"/>
            <a:ext cx="7848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Knowing what background your students bring to class and starting the course at an appropriate level can increase students’ success and positive feelings they have about your subject matt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609480" y="1523880"/>
            <a:ext cx="7848720" cy="20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mething a teacher should do on the first day of clas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762120" y="1752480"/>
            <a:ext cx="7619760" cy="257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Times New Roman"/>
              </a:rPr>
              <a:t>To avoid learned helplessness and to encourage self-efficacy for your subject matter</a:t>
            </a:r>
            <a:endParaRPr b="1" lang="en-US" sz="3600" spc="-1" strike="noStrike">
              <a:solidFill>
                <a:srgbClr val="ff9933"/>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 </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elf-efficac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ntrinsic</a:t>
            </a:r>
            <a:endParaRPr b="1" lang="en-US" sz="22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xtrinsic</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0</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0</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0</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0</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0</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0</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0</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0</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0</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0</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0</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0</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0</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0</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0</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0</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0</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0</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0</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0</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0</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0</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0</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0</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0</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otiva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2</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otiva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1</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1027"/>
          <p:cNvSpPr/>
          <p:nvPr/>
        </p:nvSpPr>
        <p:spPr>
          <a:xfrm>
            <a:off x="609480" y="2133720"/>
            <a:ext cx="7848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tting your students up for succes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533520" y="914400"/>
            <a:ext cx="8153280" cy="452916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Use ice-breaking activitie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Use small group learning and have students name their group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ake turns bringing in food to share</a:t>
            </a:r>
            <a:endParaRPr b="1" lang="en-US" sz="3600" spc="-1" strike="noStrike">
              <a:solidFill>
                <a:srgbClr val="ff9933"/>
              </a:solidFill>
              <a:latin typeface="Times New Roman"/>
            </a:endParaRPr>
          </a:p>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a:p>
            <a:pPr marL="743040" indent="-743040" algn="ctr">
              <a:spcBef>
                <a:spcPts val="22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1027"/>
          <p:cNvSpPr/>
          <p:nvPr/>
        </p:nvSpPr>
        <p:spPr>
          <a:xfrm>
            <a:off x="685800" y="685800"/>
            <a:ext cx="7848720" cy="34088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raging the formation of a cohesive learning community in your clas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57200" y="457200"/>
            <a:ext cx="8305920" cy="59850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goals and rewards of the learning are meaningful to the learner</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learning is important to the student</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learning assists the learner in obtaining valued accomplishments</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learning assists the learners in integrating themselves with the world, with others, and promotes self-awareness</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1027"/>
          <p:cNvSpPr/>
          <p:nvPr/>
        </p:nvSpPr>
        <p:spPr>
          <a:xfrm>
            <a:off x="685800" y="1981080"/>
            <a:ext cx="7848720" cy="20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ings that help to create intrinsic motivatio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09480" y="2209680"/>
            <a:ext cx="777240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rives a person to do things for tangible rewards or pressures, rather than for the fun of it.</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1027"/>
          <p:cNvSpPr/>
          <p:nvPr/>
        </p:nvSpPr>
        <p:spPr>
          <a:xfrm>
            <a:off x="609480" y="1447920"/>
            <a:ext cx="78487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trinsic Motivation</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2666880"/>
            <a:ext cx="8076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andy, stickers, lunch with the teach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1027"/>
          <p:cNvSpPr/>
          <p:nvPr/>
        </p:nvSpPr>
        <p:spPr>
          <a:xfrm>
            <a:off x="609480" y="1295280"/>
            <a:ext cx="78487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trinsic Motivation reward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etention, negative phone call home, stay indoors for recess alon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762120" y="1143000"/>
            <a:ext cx="7543800" cy="3980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nterest in the subject matter</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erception of its usefulnes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eneral desire to achiev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lf-confidence and self-esteem</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atience and persistanc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1027"/>
          <p:cNvSpPr/>
          <p:nvPr/>
        </p:nvSpPr>
        <p:spPr>
          <a:xfrm>
            <a:off x="533520" y="990720"/>
            <a:ext cx="784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Times New Roman"/>
              </a:rPr>
              <a:t>What are:</a:t>
            </a:r>
            <a:endParaRPr b="1" lang="en-US" sz="36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Times New Roman"/>
              </a:rPr>
              <a:t>Extrinsic Motivation Punishments</a:t>
            </a:r>
            <a:endParaRPr b="1" lang="en-US" sz="36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1295280" y="533520"/>
            <a:ext cx="6324840" cy="571032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Lunch Bunch</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Longer reces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pecial seat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Whole-group reward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Read-in party</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Afternoon of art and music</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Good phone call home</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Help in another clas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Hand stamp</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1371600"/>
            <a:ext cx="7848360" cy="3123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ree rewards which aid in the help of instilling Intrinsic motivation.  Teaching learning and good behavior are rewards unto themselv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590920"/>
            <a:ext cx="7772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aving our students learn without the worry of what grade they are going to get on an assignme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1027"/>
          <p:cNvSpPr/>
          <p:nvPr/>
        </p:nvSpPr>
        <p:spPr>
          <a:xfrm>
            <a:off x="609480" y="175248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etting rid of the necessity of extrinsic motivator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hinktheme[1].wav" descr=""/>
          <p:cNvPicPr/>
          <p:nvPr/>
        </p:nvPicPr>
        <p:blipFill>
          <a:blip r:embed="rId1"/>
          <a:stretch/>
        </p:blipFill>
        <p:spPr>
          <a:xfrm>
            <a:off x="4419720" y="3276720"/>
            <a:ext cx="304560" cy="304560"/>
          </a:xfrm>
          <a:prstGeom prst="rect">
            <a:avLst/>
          </a:prstGeom>
          <a:ln w="0">
            <a:noFill/>
          </a:ln>
        </p:spPr>
      </p:pic>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533520" y="259092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Jeopardy </a:t>
            </a:r>
            <a:endParaRPr b="1" lang="en-US" sz="3600" spc="-1" strike="noStrike">
              <a:solidFill>
                <a:srgbClr val="ff9933"/>
              </a:solidFill>
              <a:latin typeface="Times New Roman"/>
            </a:endParaRPr>
          </a:p>
        </p:txBody>
      </p:sp>
      <p:pic>
        <p:nvPicPr>
          <p:cNvPr id="201" name="thinktheme.wav" descr=""/>
          <p:cNvPicPr/>
          <p:nvPr/>
        </p:nvPicPr>
        <p:blipFill>
          <a:blip r:embed="rId2"/>
          <a:stretch/>
        </p:blipFill>
        <p:spPr>
          <a:xfrm>
            <a:off x="4343400" y="4191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1" fill="hold"/>
                                        <p:tgtEl>
                                          <p:spTgt spid="198"/>
                                        </p:tgtEl>
                                      </p:cBhvr>
                                    </p:cmd>
                                  </p:childTnLst>
                                </p:cTn>
                              </p:par>
                            </p:childTnLst>
                          </p:cTn>
                        </p:par>
                        <p:par>
                          <p:cTn id="38" fill="hold">
                            <p:stCondLst>
                              <p:cond delay="0"/>
                            </p:stCondLst>
                            <p:childTnLst>
                              <p:par>
                                <p:cTn id="39" nodeType="afterEffect" fill="hold" presetClass="mediacall" presetID="1">
                                  <p:stCondLst>
                                    <p:cond delay="0"/>
                                  </p:stCondLst>
                                  <p:childTnLst>
                                    <p:cmd type="call" cmd="playFrom(0.0)">
                                      <p:cBhvr>
                                        <p:cTn id="40" dur="3209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09480" y="1219320"/>
            <a:ext cx="7848720" cy="3123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game that we established K-W-L on the topic of motivation; self- efficacy; intrinsic and extrinsic motivator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4"/>
          <p:cNvSpPr/>
          <p:nvPr/>
        </p:nvSpPr>
        <p:spPr>
          <a:xfrm>
            <a:off x="533520" y="990720"/>
            <a:ext cx="8001000" cy="369468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rough mastery experience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rough the vicarious experiences provided by social model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cial persuasion</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od</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1600200"/>
            <a:ext cx="7848720" cy="2613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ctors that affect a given student’s motivation to work and to learn</a:t>
            </a:r>
            <a:endParaRPr b="1" lang="en-US" sz="3200" spc="-1" strike="noStrike">
              <a:solidFill>
                <a:srgbClr val="ff9933"/>
              </a:solidFill>
              <a:latin typeface="Times New Roman"/>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762120" y="685800"/>
            <a:ext cx="7467480" cy="506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ive frequent, early, positive feedback that supports students’ beliefs that they can do well.</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nsure opportunities for students’ success by assigning tasks that are neither too easy nor too difficult.</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Help students find personal meaning and value in the material.</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reate an atmosphere that is open and positive.</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Help students feel that they are valued members of a learning community.</a:t>
            </a:r>
            <a:endParaRPr b="1" lang="en-US" sz="2400" spc="-1" strike="noStrike">
              <a:solidFill>
                <a:srgbClr val="ff9933"/>
              </a:solidFill>
              <a:latin typeface="Times New Roman"/>
            </a:endParaRPr>
          </a:p>
          <a:p>
            <a:pPr marL="457200" indent="-457200" algn="ctr">
              <a:spcBef>
                <a:spcPts val="15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1752480"/>
            <a:ext cx="7848720" cy="3671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spects of teaching situations that enhance students’ self-motivation that encourage students to become self-motivated independent learners, that instructors can do.</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2057400"/>
            <a:ext cx="76201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st students respond positively to a well-organized course taught by an enthusiastic instructor who has a genuine interest in students and what they lear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Pooter</cp:lastModifiedBy>
  <dcterms:modified xsi:type="dcterms:W3CDTF">2009-03-13T02:36:31Z</dcterms:modified>
  <cp:revision>75</cp:revision>
  <dc:subject/>
  <dc:title>No Slide Title</dc:title>
</cp:coreProperties>
</file>